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779F-138D-4774-866C-045DD9ACC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C65D-07DF-4446-BB5E-99F0200A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5548-506D-4C18-BA40-0CA949D08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609E-F85E-4B94-9EB2-557BF1078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83BE39-DB2C-43B5-A506-D7D7B2B7C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B5ABA-C7FF-4C9D-B4B7-A60CBF67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28E8A-72EE-4D39-9C1A-BFF113AA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6FA50-C221-4C7B-A098-82C9887A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36575-96FC-41A4-A08D-8807B275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AFDB81-C260-4464-8236-E478E899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9B5C5-2926-4235-A697-B0E6C163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ACEC-D3D4-4AD5-B9B5-AF31FAC4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A56B1B-00E0-4BCD-83BC-97E7E0FB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46310-A355-4DD7-94E7-76CB93FF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AF7FC6-CBF8-4294-9679-57BDE002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755157-638D-4780-A62F-941816240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30AEC-D3F5-47CF-8F5E-1E9D1699A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CB8C8-3903-4A47-8D89-1E78660B6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C2C16-C799-4BC1-91F8-5E336EA0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8A1F5-831B-4412-A143-7DBAF2AD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7DA69-EF79-4DE5-9EA2-BF671D0E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959E2-0C5B-4521-8FAF-8744E645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7E31-6720-4707-82A8-E835B239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2F734-EECD-4853-B9DA-511DEF48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B5FA7-D64A-4142-90F5-63942656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3850E-0AE8-4A93-AC50-02C6CF5A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7E5F9-4AF8-4866-A2F0-D471AD75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3F62F-EC9A-43A3-81F3-39C614F5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C2614-64EA-46C4-AA06-0943F69C8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2BFCD-59A0-4F43-B7D3-EB33296D3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72461A-ADB3-4A12-A73E-DBE1B71D0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4BE22D-039F-4DD0-B110-5B53783C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2C85B7-8DD1-4654-B4E9-A2802A9C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A3BB-10BB-41E8-8FA2-9EEAB6E4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0F1272-E0C4-4E30-8159-1A246800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35E692-C8B1-4387-AD59-9B3D9843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3A8A36-549C-4BF2-A330-5FC1DB39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05FCE5-5C2F-49C5-8802-507B0465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FC20A5-8ABA-464E-9198-FD8BE2F7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10E8B3-C31E-409F-9DA4-D6FFFF7E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67E3F9-460F-4EA2-A524-DDE8B831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AA14A4-02DE-4CCE-8160-78EB6ECDB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62BE01-5BFF-47C6-9AEF-02E736202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CF7D-CE96-40BD-A117-6D2E2F09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69B3-0BCD-4319-B511-C07436A0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AE7E-B381-44BE-86BF-7475CD6D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6A11-8975-4EC1-BA82-F18CF527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D683-7007-4E8A-A0DC-0D29F5FB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3A24-CF86-46E5-A4D3-F279F320C62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213E-4AFE-49EA-AB64-1A14CAB419B0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F7BB-D9BC-421D-9BDF-CFA7277CD607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819C-A25D-4B02-BB01-EE6ACFFD4DC3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Rectangle 2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еудовлетворенность условиями деятельност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рушение служебной этик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рушение трудового законодательств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граниченность рессурсов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зличия в целях, ценностях, воспитани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заимозависимость задач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7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Согласительна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нападения (четкая аргументация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разубеждени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отсрочк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подробного анализа (если сторона готовы к сотрудничеству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Активного соучастия (если факт соучастия важнее чем результат)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Персонализации (с наиболее конфликтными личностями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9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именение конфликтогенов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ямое негативн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нисходительн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Хвастовство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енторск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ечестность, неискренность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арушения этических и этикетных норм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егрессивное поведение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1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. Конфликтная ситуация + инциден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С – объекты и субъекты конфликта + разногласия в позициях, целях, интересов и т.д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238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рансакция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– единица взаимодействия партнеров по общению, сопровождающаяся заданием их позиции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Основные позиции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одитель – требует, оценивает, осуждает, одобряет, руководит, учит…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зрослый – работает с информацией, анализирует, рассуждает, аргументирует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ебенок (Дитя) – проявляет чувства (обиды, вины..), шалит, своенравен, извиняется в ответ на замечания, задает вопросы : «почему я?», «За что меня наказали?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Алгоритм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648320" y="1600200"/>
          <a:ext cx="4038480" cy="190008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4648320" y="4076640"/>
          <a:ext cx="4038480" cy="2049480"/>
        </p:xfrm>
        <a:graphic>
          <a:graphicData uri="http://schemas.openxmlformats.org/drawingml/2006/table">
            <a:tbl>
              <a:tblPr/>
              <a:tblGrid>
                <a:gridCol w="2020680"/>
                <a:gridCol w="2017800"/>
              </a:tblGrid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Line 57"/>
          <p:cNvSpPr/>
          <p:nvPr/>
        </p:nvSpPr>
        <p:spPr>
          <a:xfrm flipV="1">
            <a:off x="5003640" y="2349360"/>
            <a:ext cx="31687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58"/>
          <p:cNvSpPr/>
          <p:nvPr/>
        </p:nvSpPr>
        <p:spPr>
          <a:xfrm flipH="1">
            <a:off x="5076720" y="2492280"/>
            <a:ext cx="31672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9"/>
          <p:cNvSpPr/>
          <p:nvPr/>
        </p:nvSpPr>
        <p:spPr>
          <a:xfrm>
            <a:off x="5003640" y="5734080"/>
            <a:ext cx="324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60"/>
          <p:cNvSpPr/>
          <p:nvPr/>
        </p:nvSpPr>
        <p:spPr>
          <a:xfrm flipH="1">
            <a:off x="5076360" y="4292640"/>
            <a:ext cx="324036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900000" y="2998800"/>
          <a:ext cx="2303640" cy="3165480"/>
        </p:xfrm>
        <a:graphic>
          <a:graphicData uri="http://schemas.openxmlformats.org/drawingml/2006/table">
            <a:tbl>
              <a:tblPr/>
              <a:tblGrid>
                <a:gridCol w="1152720"/>
                <a:gridCol w="11509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иц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шен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Line 93"/>
          <p:cNvSpPr/>
          <p:nvPr/>
        </p:nvSpPr>
        <p:spPr>
          <a:xfrm>
            <a:off x="1258920" y="3933720"/>
            <a:ext cx="151272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94"/>
          <p:cNvSpPr/>
          <p:nvPr/>
        </p:nvSpPr>
        <p:spPr>
          <a:xfrm flipH="1">
            <a:off x="1403280" y="3860640"/>
            <a:ext cx="1440000" cy="187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Целенаправленное, обусловленное объективными законами воздействие на динамику в интересах развития или разрушения той социальной системы, к которой имеет отношение данный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правление конфликтами включает следующие виды деятельност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Rectangle 2" descr=""/>
          <p:cNvPicPr/>
          <p:nvPr/>
        </p:nvPicPr>
        <p:blipFill>
          <a:blip r:embed="rId1"/>
          <a:stretch/>
        </p:blipFill>
        <p:spPr>
          <a:xfrm>
            <a:off x="244440" y="171360"/>
            <a:ext cx="8442360" cy="107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0" name=""/>
          <p:cNvGraphicFramePr/>
          <p:nvPr/>
        </p:nvGraphicFramePr>
        <p:xfrm>
          <a:off x="457200" y="1197000"/>
          <a:ext cx="8229600" cy="5661000"/>
        </p:xfrm>
        <a:graphic>
          <a:graphicData uri="http://schemas.openxmlformats.org/drawingml/2006/table">
            <a:tbl>
              <a:tblPr/>
              <a:tblGrid>
                <a:gridCol w="442800"/>
                <a:gridCol w="2880000"/>
                <a:gridCol w="3097080"/>
                <a:gridCol w="180972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тап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управления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аз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никновение и разв. КС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нозирование, предупрежд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чальная – 92%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знание КС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упрежд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ъема- 46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чало открытого К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улирова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ъем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витие открытого К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улирова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ик- 5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верш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реш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ада -20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зрешение – совместная деятельность  участников, направленная на прекращение противодействия и решение проблемы, приведшей к столкновению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регулирование – принимает участие третья сторон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Затухание  - истощение ресурсов, потеря мотива, переориентация мотиваци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странение – ликвидация основных структурных элементо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рерастание в другой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936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Rectangle 4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етка Томаса-Килменна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6" name="Rectangle 2" descr=""/>
          <p:cNvPicPr/>
          <p:nvPr/>
        </p:nvPicPr>
        <p:blipFill>
          <a:blip r:embed="rId1"/>
          <a:stretch/>
        </p:blipFill>
        <p:spPr>
          <a:xfrm>
            <a:off x="274680" y="176040"/>
            <a:ext cx="8412120" cy="96372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4"/>
          <p:cNvSpPr/>
          <p:nvPr/>
        </p:nvSpPr>
        <p:spPr>
          <a:xfrm>
            <a:off x="250920" y="386064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кло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250920" y="198900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курен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2700360" y="2852640"/>
            <a:ext cx="208764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роми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5219640" y="3860640"/>
            <a:ext cx="244800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способ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8"/>
          <p:cNvSpPr/>
          <p:nvPr/>
        </p:nvSpPr>
        <p:spPr>
          <a:xfrm>
            <a:off x="5219640" y="1989000"/>
            <a:ext cx="230508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труднич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10"/>
          <p:cNvSpPr/>
          <p:nvPr/>
        </p:nvSpPr>
        <p:spPr>
          <a:xfrm>
            <a:off x="611280" y="5373720"/>
            <a:ext cx="73454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611280" y="5445000"/>
            <a:ext cx="2448000" cy="914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дивиду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6012000" y="5445000"/>
            <a:ext cx="2305080" cy="914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мест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13"/>
          <p:cNvSpPr/>
          <p:nvPr/>
        </p:nvSpPr>
        <p:spPr>
          <a:xfrm flipV="1">
            <a:off x="7956720" y="1916280"/>
            <a:ext cx="0" cy="3241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14"/>
          <p:cNvSpPr/>
          <p:nvPr/>
        </p:nvSpPr>
        <p:spPr>
          <a:xfrm>
            <a:off x="8028000" y="1557360"/>
            <a:ext cx="720720" cy="136692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366920"/>
              <a:gd name="textAreaBottom" fmla="*/ 1332000 h 1366920"/>
            </a:gdLst>
            <a:ahLst/>
            <a:rect l="textAreaLeft" t="textAreaTop" r="textAreaRight" b="textAreaBottom"/>
            <a:pathLst>
              <a:path w="21600" h="40957">
                <a:moveTo>
                  <a:pt x="3600" y="0"/>
                </a:moveTo>
                <a:arcTo wR="3600" hR="3600" stAng="16200000" swAng="-5400000"/>
                <a:lnTo>
                  <a:pt x="0" y="37357"/>
                </a:lnTo>
                <a:arcTo wR="3600" hR="3600" stAng="10800000" swAng="-5400000"/>
                <a:lnTo>
                  <a:pt x="18000" y="409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ктив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15"/>
          <p:cNvSpPr/>
          <p:nvPr/>
        </p:nvSpPr>
        <p:spPr>
          <a:xfrm>
            <a:off x="8028000" y="3860640"/>
            <a:ext cx="720720" cy="134640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346400"/>
              <a:gd name="textAreaBottom" fmla="*/ 1311480 h 1346400"/>
            </a:gdLst>
            <a:ahLst/>
            <a:rect l="textAreaLeft" t="textAreaTop" r="textAreaRight" b="textAreaBottom"/>
            <a:pathLst>
              <a:path w="21600" h="40342">
                <a:moveTo>
                  <a:pt x="3600" y="0"/>
                </a:moveTo>
                <a:arcTo wR="3600" hR="3600" stAng="16200000" swAng="-5400000"/>
                <a:lnTo>
                  <a:pt x="0" y="36742"/>
                </a:lnTo>
                <a:arcTo wR="3600" hR="3600" stAng="10800000" swAng="-5400000"/>
                <a:lnTo>
                  <a:pt x="18000" y="403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ссив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 ее помощью можно наметить стратегию, этапы и способы разрешения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облема конфликта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Истинная причина конфликт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Действительные участники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одлинные потребности и опасения сторон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ежличностные отношения участников до конфликт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Отношение к конфликту лиц, не участвующих, но заинтересованных в положительном его разрешени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грессист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жалобщик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разгневанный ребенок"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аксималист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олчун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тайный мститель"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ложный альтруист"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хронический обвинитель"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1" name="Rectangle 2" descr=""/>
          <p:cNvPicPr/>
          <p:nvPr/>
        </p:nvPicPr>
        <p:blipFill>
          <a:blip r:embed="rId1"/>
          <a:stretch/>
        </p:blipFill>
        <p:spPr>
          <a:xfrm>
            <a:off x="244440" y="152280"/>
            <a:ext cx="855180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0" y="1197000"/>
          <a:ext cx="9123480" cy="5661000"/>
        </p:xfrm>
        <a:graphic>
          <a:graphicData uri="http://schemas.openxmlformats.org/drawingml/2006/table">
            <a:tbl>
              <a:tblPr/>
              <a:tblGrid>
                <a:gridCol w="3111480"/>
                <a:gridCol w="6012000"/>
              </a:tblGrid>
              <a:tr h="4348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овное содерж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цион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квидация дефицита информации в конфликте; исключение из информационного поля ложной, искаженной информации; устранение слухов и т.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8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муникатив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я общения между субъектами конфликтного взаимодействия и их сторонниками; обеспечение эффективного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циально-психологичес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с неформальными лидерами и микрогруппами, снижение социальной напряженности и укрепления социально-психологического климата в коллектив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он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шение кадровых вопросов; использование методов поощрения и наказания; изменение условий взаимодействия сотрудников и т. 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3" name="Заголовок 2" descr=""/>
          <p:cNvPicPr/>
          <p:nvPr/>
        </p:nvPicPr>
        <p:blipFill>
          <a:blip r:embed="rId1"/>
          <a:stretch/>
        </p:blipFill>
        <p:spPr>
          <a:xfrm>
            <a:off x="249120" y="-189000"/>
            <a:ext cx="845028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В реальной практике по управлению конфликтами важно учитывать предпосылки, формы и способы их разрешения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достаточная зрелость конфликта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отребность субъектов конфликта в его разрешении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аличие необходимых средств и ресурсов для разрешения конфликт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6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60076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ничтожение или полное подчинение одной из сторон (уступка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гласование интересов и позиций конфликтующих сторон на новой основе (компромисс, консенсус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заимное примирение конфликтующих сторон (уход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ревод борьбы в русло сотрудничества по совместному преодолению противоречий (сотрудничество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8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административный (увольнение, перевод на другую работу, решение суда и т. п.)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едагогический (беседа, убеждение, просьба, разъяснение и т. п.)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0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лгоритм деятельности руководителя в процессе управления конфликтами зависит от многих факторов — содержания самого конфликта, условий его возникновения и развития и многих других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2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0" y="1974960"/>
          <a:ext cx="9144000" cy="4884480"/>
        </p:xfrm>
        <a:graphic>
          <a:graphicData uri="http://schemas.openxmlformats.org/drawingml/2006/table">
            <a:tbl>
              <a:tblPr/>
              <a:tblGrid>
                <a:gridCol w="858960"/>
                <a:gridCol w="3305160"/>
                <a:gridCol w="4979880"/>
              </a:tblGrid>
              <a:tr h="5032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а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деяте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особы (методы) реализ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учение причин возникновения конфлик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блюдение, анализ результатов деятельности; беседа; изучение документов; биографический метод, то есть изучение биографических данных участников конфликта и д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1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граничение числа участник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с лидерами в микрогруппах; перераспределение функциональных обязанностей; поощрение или наказание и т. 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4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полнительный анализ конфликта с помощью экспер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рос экспертов; привлечение медиатора, психолога, переговорный процесс (медиация) и д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нятие реш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дминистративные методы; педагогические мет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4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247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ъек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бъект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бъективные мотив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зиции сторон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вод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процессе управленческой деятельности по разрешению конфликтов и в выборе алгоритма такой деятельности 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для руководителя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ажно учитывать следующие принципы управления конфликтам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ъективности и адекватности оценки конфликт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нкретно-ситуационного подход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гласности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емократического воздействия, опоры на общественное мнение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мплексного использования способов и приемов воздействи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0" y="1844640"/>
          <a:ext cx="9144000" cy="4822920"/>
        </p:xfrm>
        <a:graphic>
          <a:graphicData uri="http://schemas.openxmlformats.org/drawingml/2006/table">
            <a:tbl>
              <a:tblPr/>
              <a:tblGrid>
                <a:gridCol w="4908600"/>
                <a:gridCol w="4235400"/>
              </a:tblGrid>
              <a:tr h="3952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факто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лед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остороннее суждение руководителя о подчиненных (как правило, только с точки зрения того, как они выполняют его указани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шает понять мотивы конфликтующих и оценить динамику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тересы руководителя в конфликте как члена коллектива и как лич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связанные с субъективной оценкой предмета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емление как можно быстрее погасить конфлик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часто приводящие к наказанию «правых» и «виноватых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жличностные отношения с конфликтующими (симпатии, антипатии дружба и т. п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проявляющиеся в предвзятом отношении к одному из участников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7" name="Заголовок 2" descr=""/>
          <p:cNvPicPr/>
          <p:nvPr/>
        </p:nvPicPr>
        <p:blipFill>
          <a:blip r:embed="rId1"/>
          <a:stretch/>
        </p:blipFill>
        <p:spPr>
          <a:xfrm>
            <a:off x="274680" y="85680"/>
            <a:ext cx="84121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444600" y="3352680"/>
            <a:ext cx="8169120" cy="18097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685440" y="4959360"/>
            <a:ext cx="7924680" cy="9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efac9"/>
                </a:solidFill>
                <a:latin typeface="Constantia"/>
              </a:rPr>
              <a:t>Формулы конфликта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57200" y="1523520"/>
            <a:ext cx="85075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конфликтогенов (КФГ)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Конфликтогены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— это слова, действия (или отсутствие действий), которые могут привести к конфликт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этом КФГ2 &gt; КФГ1(, КФГ3&gt; КФГ2 и т. д. (Закон эскалации конфликтогенов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1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91320" cy="1219320"/>
          </a:xfrm>
          <a:prstGeom prst="rect">
            <a:avLst/>
          </a:prstGeom>
          <a:ln w="0">
            <a:noFill/>
          </a:ln>
        </p:spPr>
      </p:pic>
      <p:sp>
        <p:nvSpPr>
          <p:cNvPr id="252" name="Скругленный прямоугольник 4"/>
          <p:cNvSpPr/>
          <p:nvPr/>
        </p:nvSpPr>
        <p:spPr>
          <a:xfrm>
            <a:off x="826920" y="2781360"/>
            <a:ext cx="7345440" cy="9349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КФГ1      КФГ2      КФГ3     …      К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3" name="Прямая со стрелкой 6"/>
          <p:cNvCxnSpPr/>
          <p:nvPr/>
        </p:nvCxnSpPr>
        <p:spPr>
          <a:xfrm>
            <a:off x="2195280" y="3249360"/>
            <a:ext cx="432360" cy="1080"/>
          </a:xfrm>
          <a:prstGeom prst="straightConnector1">
            <a:avLst/>
          </a:prstGeom>
          <a:ln w="12600">
            <a:solidFill>
              <a:srgbClr val="a5b592"/>
            </a:solidFill>
            <a:miter/>
            <a:tailEnd len="med" type="arrow" w="med"/>
          </a:ln>
        </p:spPr>
      </p:cxnSp>
      <p:sp>
        <p:nvSpPr>
          <p:cNvPr id="254" name="Стрелка вправо 7"/>
          <p:cNvSpPr/>
          <p:nvPr/>
        </p:nvSpPr>
        <p:spPr>
          <a:xfrm>
            <a:off x="2268360" y="3176640"/>
            <a:ext cx="432000" cy="108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3995640" y="3141720"/>
            <a:ext cx="480960" cy="208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"/>
          <p:cNvPicPr/>
          <p:nvPr/>
        </p:nvPicPr>
        <p:blipFill>
          <a:blip r:embed="rId3"/>
          <a:stretch/>
        </p:blipFill>
        <p:spPr>
          <a:xfrm>
            <a:off x="5746680" y="3141720"/>
            <a:ext cx="480960" cy="208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4"/>
          <a:stretch/>
        </p:blipFill>
        <p:spPr>
          <a:xfrm>
            <a:off x="6754680" y="3141720"/>
            <a:ext cx="481320" cy="2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авило 1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Не употребляйте конфликтоген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авило 2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Не отвечайте конфликтогеном на конфликтоген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ажно отметить, что по наблюдениям специалистов, 80 % конфликтов возникает помимо желания их участников и по вышеприведенной формуле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9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152388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конфликтной ситуации (КС) и инцидента (И)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Конфликтная ситуация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— это накопившиеся противоречия, связанные с деятельностью субъектов социального взаимодействия и создающие почву для реального противоборства между ним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Инцидент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— это стечение обстоятельств, являющихся поводом для конфликт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1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24720" cy="1463760"/>
          </a:xfrm>
          <a:prstGeom prst="rect">
            <a:avLst/>
          </a:prstGeom>
          <a:ln w="0">
            <a:noFill/>
          </a:ln>
        </p:spPr>
      </p:pic>
      <p:sp>
        <p:nvSpPr>
          <p:cNvPr id="262" name="Скругленный прямоугольник 3"/>
          <p:cNvSpPr/>
          <p:nvPr/>
        </p:nvSpPr>
        <p:spPr>
          <a:xfrm>
            <a:off x="2268360" y="2781360"/>
            <a:ext cx="4391280" cy="7189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С + И = К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34920" y="692280"/>
          <a:ext cx="9109080" cy="6165720"/>
        </p:xfrm>
        <a:graphic>
          <a:graphicData uri="http://schemas.openxmlformats.org/drawingml/2006/table">
            <a:tbl>
              <a:tblPr/>
              <a:tblGrid>
                <a:gridCol w="4216320"/>
                <a:gridCol w="4892760"/>
              </a:tblGrid>
              <a:tr h="4539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арактер конфликтной ситу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яв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добросовестное исполнение обязанност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рушение трудовой дисциплины Брак в работ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удовлетворительный стиль управ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ки в подборе и расстановке кадров Ошибки в организации контроля Просчеты в планировании Нарушение этики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6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адекватное представление о конкретных ситуация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правильные оценки, суждения о действиях других субъектов социального взаимодействия Ошибки в выводах относительно конкретных ситуац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37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дивидуально-психологические особенности лич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рушение принятых в социальной группе правил взаимоотношений Нарушение этики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зкая профессиональная подготов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рак в работе Неспособность принять адекватное реш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Прямоугольник 7"/>
          <p:cNvSpPr/>
          <p:nvPr/>
        </p:nvSpPr>
        <p:spPr>
          <a:xfrm>
            <a:off x="2063880" y="87480"/>
            <a:ext cx="47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ипы конфликтных ситуац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нескольких конфликтных ситуаций (КС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этом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&gt; 2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мма двух или более конфликтных ситуаций приводит к конфликт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6" name="Заголовок 4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  <p:sp>
        <p:nvSpPr>
          <p:cNvPr id="267" name="Скругленный прямоугольник 6"/>
          <p:cNvSpPr/>
          <p:nvPr/>
        </p:nvSpPr>
        <p:spPr>
          <a:xfrm>
            <a:off x="1692360" y="2637000"/>
            <a:ext cx="5400720" cy="7207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С1 + КС2 + ... + КС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= К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Конфликт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— это такое отношение между субъектами социального взаимодействия, которое характеризуется их противоборством на основе противоположно направленных мотивов (потребностей, интересов, целей, идеалов, убеждений) или суждений (мнений, взглядов, оценок и т. п.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1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По составу участников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нутриличностны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личностны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ду личностью и группо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группово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По длительности и напряженности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урные быстротекущие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стрые длитель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лабовыраженные вялотекущ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лабовыраженные быстротекущ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7" name="Rectangle 2" descr=""/>
          <p:cNvPicPr/>
          <p:nvPr/>
        </p:nvPicPr>
        <p:blipFill>
          <a:blip r:embed="rId1"/>
          <a:stretch/>
        </p:blipFill>
        <p:spPr>
          <a:xfrm>
            <a:off x="225360" y="208080"/>
            <a:ext cx="846144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3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В зависимости от сферы проявления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Эконом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де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бытов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емейно-бытов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4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социальных последствий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нструктив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еструктив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936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предмет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еалистичные (предметные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ереалистичные (беспредметные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6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причин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щие 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Частные 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ичины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– явления, события, факты, ситуации, которые предшествуют конфликту и, при определенных условиях деятельности субъектов социального взаимодействия, вызывают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238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экономические и полит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демограф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псих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ндивидуально-псих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5" name="Rectangle 2" descr=""/>
          <p:cNvPicPr/>
          <p:nvPr/>
        </p:nvPicPr>
        <p:blipFill>
          <a:blip r:embed="rId1"/>
          <a:stretch/>
        </p:blipFill>
        <p:spPr>
          <a:xfrm>
            <a:off x="244440" y="171360"/>
            <a:ext cx="84423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07:37:26Z</dcterms:created>
  <dc:creator>User</dc:creator>
  <dc:description/>
  <dc:language>en-US</dc:language>
  <cp:lastModifiedBy>Iren</cp:lastModifiedBy>
  <dcterms:modified xsi:type="dcterms:W3CDTF">2020-04-09T10:58:29Z</dcterms:modified>
  <cp:revision>20</cp:revision>
  <dc:subject/>
  <dc:title>Конфликты и пути их разрешения.</dc:title>
</cp:coreProperties>
</file>